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</p:sldIdLst>
  <p:sldSz cx="9144000" cy="6858000"/>
  <p:notesSz cx="6670675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0" y="0"/>
            <a:ext cx="66708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dt" idx="60"/>
          </p:nvPr>
        </p:nvSpPr>
        <p:spPr>
          <a:xfrm>
            <a:off x="377820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Img"/>
          </p:nvPr>
        </p:nvSpPr>
        <p:spPr>
          <a:xfrm>
            <a:off x="870120" y="739440"/>
            <a:ext cx="494640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ftr" idx="61"/>
          </p:nvPr>
        </p:nvSpPr>
        <p:spPr>
          <a:xfrm>
            <a:off x="0" y="938988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 type="sldNum" idx="62"/>
          </p:nvPr>
        </p:nvSpPr>
        <p:spPr>
          <a:xfrm>
            <a:off x="3778200" y="938988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317565-0E36-4550-8B63-D7A14525480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88AE69-FA61-434A-B230-28621FA5514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6400" cy="37098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2ED4DF-6A55-41D2-9DDA-CE6EC41DBB9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DCA7FF9-4967-4A80-849C-BAD4528DA5D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BC5921-EA80-4F0D-9655-80631F70519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CAE01DB-654D-4EFF-B78F-2FA96069570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0C5DD2-7BDC-40BA-AC0F-8AC62866C7B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149D1CE-A9DD-4F1C-84D2-712AC9267C8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B3C0BF8-FABA-4D3E-A036-1ACF45BD1A1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CFADCB5-D534-4C4C-9F46-84F7567F013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884160" y="76032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7640" y="4714920"/>
            <a:ext cx="4898880" cy="4411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läuterung der Einsatzkriterien und Ausschlussgrü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F71CCB-046A-462B-8E56-15E88432323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788CDB9-7675-4BB2-A311-8B271960722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2941F9-0732-4AF2-BB2A-E8DE1AE9C5A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3BCC16-8F83-401D-8C21-0854125322F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B136BF9-2E67-44EB-879E-2FCFBE85CC6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DC41DCC-6C28-408A-B888-E47BFA2583E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F0E8E6-5DF8-41F4-8FB8-6356663C718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1BA7BCC-5AB9-4341-91F5-6FBA19A567D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rian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to kann noch eingefüg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ähere Erklärung der Kosten: Nebenkosten (Versicherung und medizinische Versorgung des Experten, fachliche Vorbereitung auf und nach den Einsatz wie Literatur, Firmenbesuche, Entsendegespr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bearbeitungskosten 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bearbeitung, Expertensu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56A0D22-8D57-4D59-8FF7-D5F89EA9750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3778200" y="9391680"/>
            <a:ext cx="2890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B2A06B8-0096-48E4-970C-19CB891D6FF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6400" cy="37116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leinstellungsmerkmal des 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läuterung zu Gründungsjahr und Trägern des 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S ei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vate gemeinnützige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4FB1CF-7A55-4C68-AB6E-B9E19DD1109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853B05-6B21-479E-8E09-21AEFE933DD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E6B239-D5B6-4291-BFDA-18182F45D5C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2CD957-D737-498C-AA8E-4A6D09D44CB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rian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792D57-537C-4F17-B766-1EEAB6C30EB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26E3C1-3AD2-4C7B-8A3C-2323F2C3F4D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C948C15-03AB-4215-A6E8-A202C8E7D79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ähere Erläuterung zu Exekutivaufgaben, kein Arbeitsplatzersatz, keine Urlaubsvertretung, keine Verantwor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27769C-F686-4BBE-8557-6869938066A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81615C-B6C9-4871-946E-39172F2A6EE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035676B-25A4-4DCB-98D6-5B884C18011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, eventuell animiert und ohne Aufzählungsze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878C266-EA31-40B3-A5FD-C618C9A30D1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öglichst mit Folgefolie und Kontaktdaten zusam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539165-54D5-45C5-A212-F6E4687FFFC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04169-E7F0-44E0-B4BB-19C70533268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3"/>
          <p:cNvSpPr/>
          <p:nvPr/>
        </p:nvSpPr>
        <p:spPr>
          <a:xfrm>
            <a:off x="3778200" y="9391680"/>
            <a:ext cx="2890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47428C-7D45-46B7-AF0B-49BB2E35BF0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6400" cy="37116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 die einzelnen Zahlen nach Regionen so stehen bleiben, muss noch geprüft werden. Gewünscht war eine Gesamtzahl in der Kopfzeile anzuge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21E6C59-1892-4733-AD38-3A74E146D10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66360" y="4695840"/>
            <a:ext cx="5335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CFB9CF8-E506-4305-BE91-6666242BE3C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3778200" y="9391680"/>
            <a:ext cx="2890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ADBF140-E0B8-4683-A9E5-271EA23467F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8683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 die einzelnen Zahlen nach Regionen so stehen bleiben, muss noch geprüft werden. Gewünscht war eine Gesamtzahl in der Kopfzeile anzuge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8DA406-2A1B-474C-8C16-C251FDA33E9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öglichst mit Folgefolie und Kontaktdaten zusam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76DDC3-00E9-4312-B11A-7C5C4EB81DA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8F556B-0646-4556-BDB6-4BAEB212173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887040" y="4695840"/>
            <a:ext cx="4894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weis auf Liste: Anzahl der Experten nach Arbeitsbere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otal number of Experts (August 2002): 55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ushroom growing, marmelade cooking, teacher, manager, engineer, mechanic, 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1F431B1-7619-4F40-AADE-11F1C289CA7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elleicht auch so oder so ähnlich als Antwort auf Foli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ter Text: SES-Einsätze steigern Ihre Wettbewerbsfähigkeit! Der SES ist Ihre Chan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9E4B87-6C1E-4B18-86A3-322100D1A02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F21EF6-FE14-44D4-A4CB-9FF68FDAB1D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870120" y="73980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887040" y="4694400"/>
            <a:ext cx="4894200" cy="4451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terstützung in den Bereichen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Foliennummernplatzhalter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3C40F9-0342-4A97-BCC2-94ED5ADA3C6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A4C8A5-BCBC-477D-9F4E-7957636394D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398FAC2-5499-4463-B1F3-1841ECA79D7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B6B05EB-65B5-4E6D-AEE2-D17A4B95475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3"/>
          <p:cNvSpPr/>
          <p:nvPr/>
        </p:nvSpPr>
        <p:spPr>
          <a:xfrm>
            <a:off x="3778200" y="9390240"/>
            <a:ext cx="2890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F174AC4-A6B6-4C1D-B7A6-D577DBF18AD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86364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888480" y="4695840"/>
            <a:ext cx="489132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schrift Einsatzbeispiel wird durch ein konkretes Beispiel erset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95FA-8FEB-4C91-AE55-AD67D4491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1F55-A84E-44B3-B493-D4C00F4D28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5E3C3-F4E5-4425-B9C5-DB6F3C1B39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E15DF-B277-456E-91EF-56827AD64B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E28D3-19B8-41CE-8359-66595554E3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7EE93-7FDB-4BBD-9ECD-AC7C99C56C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A7EB2-DA55-4395-BF19-32DA49A28F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0E124-AF84-48B2-ACD7-B43C90AF55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AF4D8-C628-47AA-9838-174A4A0C70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BBF94-010B-43A4-A418-5674A5CAB6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B0713-32EF-42C3-93D1-26A8C8E48F3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B5989-920C-4587-B654-13E6BD5D8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3C96-0A8E-4526-981F-DBE9BAF5C72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A0C5E-D1B8-44FB-96BA-588418E65B6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FF6AA-4CFC-40C6-800E-2291AA310C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7B3848-34E4-4BE0-BF7C-E618610F52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4CDF0-F7C1-44F5-8988-0FB972055A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D29B13-3751-471B-B196-7E8CD4F4F6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4AB53-2097-4B01-A2D6-BB19509A6C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B83A2-590C-4B91-8EBB-3C40527C81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219AE-5850-490E-8F9A-7867375DEB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A428A5-0E65-4802-8FCE-F6E23253A0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1DA97-ACC1-4E19-A0E6-5FC931DA3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6731-50DE-4B3A-9ECB-74A65B8737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BC1659-F618-4EEF-9B3F-36AFCCC9CB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A09F-5964-4233-8A00-86799229AA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1DBA-569D-4CA8-BEF4-27E44663A6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5B4A-406E-48C9-8C0A-25A22100A7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5C1B2-8D46-476A-B86A-BBDFD7A161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3C58-0B7E-4549-88F0-80A59446EF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533FF-13C6-489E-B121-DBF708652B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813C4-A13C-4EDF-BEB4-5D3C7DAE57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4547-D484-4B7C-8833-246E547001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5A00-3461-4A84-AF7B-B6FD4849C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8F01E-D28F-4305-B124-2BA827F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E742-E9FD-4AF6-85E9-2AED2A097A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6B22C-B30E-4549-94DD-696B0A8F4E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C2600-3F5E-44AC-91B0-C239409828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D26C1-01DC-4B4A-B816-B946676DC1A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BD61F-958A-4A46-9CBE-3E2595F1D4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749F6-B7D7-4FD2-AA44-AAF519AAE86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E5EA9-C405-4A8B-8AD8-F6FBCEDC89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CFED4-0755-4C6D-81BD-9D5B6DC71C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A3336-4CCF-4AD0-8879-89923AB1B8B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A5D70-5A7E-4AD1-8E60-2C1606B179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56C9-A3D1-4CAF-98FB-2BBA4F9C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5DE05-9C0B-44DD-A5B0-087027337C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2571E-A4D0-482A-ACC8-5B5ECAC3C90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43F0B-9AB0-46EA-8AD8-7AD7CE1F44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1CB2D-1BBB-4A76-BEA0-20369FEEBF1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29D69-AAA6-4204-8121-5B9B17FD54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905A0-672E-474D-9399-C93EA692621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0B902-80AC-4A98-8519-E2C944B1AF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B50EC-2E57-436D-BFCE-0C8D86E074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9001E-4515-49EE-B6F6-B317075AF8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831AC-22D6-4CDC-834E-2156509763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27346-DDB7-4E11-8149-6E8C77C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81A89-67D2-4356-8CAC-698CE9DB1D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FFEDB-9C02-4F96-8666-C6181C7827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8F829-7EF2-4633-884A-64CB92FF04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77DD1-88BD-47D2-B9AC-76DF9E00E2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3E507-1A68-4E40-BCC3-3CCB536B2B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DC73A-1B81-4D34-82DF-670B9B7A1C1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19BBB-3621-49FC-8F82-3E3AA7CFE33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AC631-1CDA-4DBC-841C-C4AF972D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EFA76-642C-49E4-BC4B-EE15029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46BC4C-01E4-47DC-9FF8-9C07A0C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3CF8D-AB95-4CDB-BAFD-4C06B90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A1DA8C-B6B5-4DA5-B356-6E3DB7B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CED95E-4485-429E-B7F1-71DD8CD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7AA8F0-C7AB-45B5-A080-B7E02075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EA9775-AE31-425B-8C65-E10D06B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4F16F2-EA9D-4F02-801A-84AD4C55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1A8A77-D566-45F0-A0BC-2907298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E350B-5204-4FD1-8AD2-D40C960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23BB92-9980-454B-95A8-39F0898A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575462-3BFD-43B3-A29E-A3E6A7D5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859244-698F-42F7-B9B4-7E403FE5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6B7AA-4DB9-430B-A9B7-56363D56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3D2B1-0CF1-4AE7-AA8B-124C49E9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08D18F-494E-4CEE-98CB-10E91B1E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2D6735-BCC1-4FAE-9752-01A4E2D3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8D2F08-9BDD-4FB7-9855-17CD0F29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C05BE-D2EB-48E2-84F9-6F3766DD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84CD92-519B-472A-95F3-ADB6A1B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D819D-21E4-4921-9695-806FB4D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8F6368-7BF1-4818-B0CE-56E2B45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E1A60-ECD1-452C-AFF1-B7643AE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BE173F-09D7-4D49-9EB0-FFDD6CAF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C3975-AFEF-4A77-A172-72B9528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C27533-433D-49A0-A311-274A12AB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47988B-FCB7-4436-BCB0-98693026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C1F608-C166-4B8F-8652-128A0A6A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70F6F5-CAEB-468B-A7F0-7038C3F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9FF4ED-2269-4183-9F20-EE49B6B7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2D12F0-4171-4B8B-9E0C-0ADDCEAE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2D0DF9-36A2-4AF2-BB8B-916F981D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F006C9-7EC4-4B4A-AE78-705D1C1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740F1-9A41-4002-8BF6-C320373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172764-BF43-48B5-AD84-7BBB9E7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47799-8848-497C-81A7-FE2589BB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47F527-F36A-4E07-8D02-F8B9429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6AF178-8841-4F6D-B0A7-C2A4E4B2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09DFF-6D60-42CE-A700-EE98C7DB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7D3A36-7670-4C24-BD88-F85ECF0B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5E83AB-482C-4892-920A-AE80AF82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3C1E81-FA34-4901-9FEB-DBB03FB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EC0E6E-00FE-4CE5-AAEB-1DA0AE32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32F3CF-CCFF-46DA-AB72-DFC9900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3E805-B9B6-46A3-8EC0-675102C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A0BF9-70EC-453F-AA2E-CBDBC30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AE73-B7FC-4E95-A165-3E3B5CDF2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0769-C842-44AB-AB89-8266DB1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74AFE-CD87-4091-AA3D-00F0593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7D722-4226-4813-B877-CE7A10D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54019-7384-4371-9ECB-8FDEB7D0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C388DC-92FC-4441-8EDB-DFA76108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520B9-7380-4D63-8986-7E495575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4B1B9D-440D-42B3-822F-76C50B6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C6C642-9EEF-4443-B1F2-EA8C421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0EDEB1-8C64-429E-9908-BDE48CF4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7B97DF-FDE1-4338-8DA1-3856652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FB037C-0F6B-439D-881C-6FF25AC4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31966-F282-415D-921E-DFEDA7E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29B029-F3C9-4A6D-B6FA-2C74D90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EB87CD-57C7-43BD-B692-4705B56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9434DC-7677-4788-BC9A-0256803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9991AF-0EED-47EE-8EDE-F721B1D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12CB11-B737-4963-A0A1-9629066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626ADA-D35D-4FAF-A995-09D9A4F3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99E055-0BE6-4F5F-A2E4-EB4FB4AA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32EB61-5FE8-4B32-9F42-10BD16FA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131B7E-C196-45AA-AC59-A3EC41B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837F9B-D063-4AC8-9EB5-B2872D7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EB28-1FBF-4A88-9FB2-D9BAE273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D450B2-25D2-4B2F-9E29-BC560E5E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E3F512-D027-42A7-BAEA-55A57EFE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142041-AA0B-4D1C-B13C-767DE9F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39C544-049C-47E4-BE01-7E64F05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4C7F14-C9FA-465B-BC1E-EB2E974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971A64-49BF-4592-9256-8B7E5CD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E600E8-C5B3-4E33-8D38-360BB13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384694-ABCA-4C6B-9349-8065C52E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3E99D9-524F-4CF9-A243-BC029D93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D374D2-17FD-4D12-A343-DA899DC1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A0F9-9E66-417A-A6A5-F8C7F663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F77924-4670-4B6F-8477-E41730F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1B323A-A775-451D-BC00-C9E2131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0E8C95-2D36-401F-9392-95A767F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5BA6D3-D533-4337-9AAC-3EFABFE2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E594A2-2318-4FD5-9789-B1B4812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F1D5D6-DDB9-4056-9763-0459943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D029EF-7401-4F30-97E3-464EAD77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40C0E3-49C6-468B-9AAE-FC62B4C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F2936F-C42B-4D80-8B4E-987CCF2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EA0ADF-81E6-4DBD-AA72-37DF38C6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F5407-5772-4F10-9775-C55050B6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744A84-2071-4CC8-B002-817C3FDE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061739-3F80-4D01-A5A9-8C8E2162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8EAD27-2D18-4F28-9F6A-E2227CF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D7DC6C-AEED-42EB-9A1A-C0351B92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4A3489-61D2-43E5-A411-1820F97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F2CE19-01C8-4ED9-891B-9FFB39E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93BB34-1EF2-4FC5-84A5-B8B8F64C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26469A-3397-4DCE-9CCC-7488907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F2C7BD-7715-4913-BE70-67DEFCF7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1480B2-9E0C-482F-85D4-603464D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685FC9-01DC-4CD7-AC45-5A1F563C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42347F-8D3E-468C-B929-B4250C0C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FD855A-5656-4189-9658-A56A6A71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D22018-60EC-47F9-BF8B-CC31D32C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A027DE-F4AC-4301-80E5-498BAF55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38DF81-F7A9-460B-A435-728646E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5DC2C3-3110-43BF-9BC7-EC69C502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06DEA0-D5FA-42E4-9C33-74B7A3D5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FF17DD-B994-400A-B49B-6D18A039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C36109-144E-4E41-ACE3-3908B39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3FBE7A-EE21-42AA-A843-B99DD3F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B9B033-FE8C-475D-9673-7C673D0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6FDBAB-9367-4438-A2AF-A8BCB0BF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415959-C5B3-4B8D-8CFF-9A73A159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9877F0-493F-4163-9968-0F69132E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C4A493-6FEC-4A35-B034-16852F8B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3482C6-09D4-4DB9-92BB-A17C727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C23FD6-C0D7-45A7-84DF-5D00A2D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903003-EA78-426E-945B-D58BD7B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732D17-4A5F-4B1A-8D24-C80A3DA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0C572C-546F-43E4-8A3E-D8FB9D78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897E1D-DBDC-408E-95DA-66FB8C5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1E49C8-C0B3-4D45-B254-5806385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AB47F5-E89F-4088-A488-16006E3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9C76DF-7E9C-4C92-A02D-DBBD5BF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9FAEDD-5EEB-4591-ACB4-619CE88C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6810C7-8C2D-41D1-9933-E2E07F07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BC0622-1F0E-48BB-A656-F67EB17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EEB8F8-F10C-4209-8E62-27A16D1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4FC647-DC2C-4B0F-B480-AF0A73D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ED9081-80E3-4263-A09F-FBEB02FE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624C79-EC3E-4A4C-9168-52AB5CB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575834-FA50-4638-910F-9D066D6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A1988C-82AC-443C-808B-A7E5F1E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F7E9C1-E446-4176-99FA-0D4411C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12AB77-FDE8-4D8C-A6CE-78871BE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8D577E8-7AE6-4E11-83B5-ADC91727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8F693C-E530-4426-8EB2-43BD958C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0B9DD7-1E99-43FD-A268-94BB70C3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9520-6A4C-4B0E-A496-D24631920F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38C44-3B72-471C-A549-5DD99045C1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F71CB-B57E-4F1E-9497-51E5120158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B1A39-F0E0-4583-B17C-8503548D5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3D31-8C7C-4457-BECC-94503E8F94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D776B-4165-4771-BBE9-6D0357A000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D0BD7-87E4-4A30-967E-1FB714F08C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E22E8-DD60-480D-A3D3-CDEB56A296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7748E-E91D-4BF1-A0D0-D450F639BE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A79A9-36F1-451B-9788-CD30B4D97B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CC205-6AE7-418C-BD35-37515BDF09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0195B-D0EA-4424-9BBE-F811BFFE0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050A3-9944-4766-BB18-5B2A5B5AAD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25544-3237-41F1-B4A0-3D745843FC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B546-60DE-47FE-A707-AA099B8EF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6A62-7CA4-4312-8ED4-8E2F273624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9CCA-2128-4F9B-95F3-99D7E13AE9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3155-0036-42D0-BC30-719B13A97D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6886-D88D-481A-BCE4-04C4CCAAEC7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AB84-D0D6-4A17-9042-97EBED708A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9E8A-3A1E-4014-8B8B-1C7D447671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01EC-91D5-4E57-8C58-F44C26344E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C064-CE98-49E4-BD9D-30B8BE7B00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441B-50F9-4FE0-9DAA-0BD8F8F356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12F6-9828-4CF6-B489-DFF3A54E08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F66B-23D0-44FE-8462-2F428C86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A68C-DF88-4DBD-B98E-8095525B06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3C15-480A-4F46-B904-6FF2F048CF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B1317-1D15-46CE-A2FC-5AD67D47D3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4BF27-28AA-4A4F-8153-587712808D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73951-0DDE-4252-9106-8DC3C6596C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40BAB-920A-4757-ADE6-4CDD2D52C4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ED93F-E3AD-47DD-8E63-A3999DA4BD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DAD0C-766A-4AA3-BAA7-85733C444F7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575C6-39B9-4475-9AAC-E7FE763F4B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D3307-FD3A-40D7-93A6-072B6BD397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423A2-87CE-4A05-BFFF-D587956C3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A8FD-3150-47A7-98FC-DF31B2155B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EEFCA-5993-4097-8768-43A48F59E1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7B8A3-53EE-4DEB-90D0-911551202D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C3C51-9F2C-4507-BEEA-B9F99E72E8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FA1AF-3A90-4D52-B6A7-B37561B928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CBE7F-E567-463B-B145-8EB58C5EFF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B729B-FBE7-4C01-ABC6-3DBCD012BC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EE53B-89F9-4F89-8256-926C3749C6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B554D5-FD81-4655-A040-1822CEFA9D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CBAE2-E211-4068-B8FA-1FF7ECF451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13624-D1FE-4052-9A83-2D549E14B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27B8-1E95-4033-8259-08ADD1D97F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619FE-E9C8-47EA-98AB-B7180F949C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909E0-EE63-4D0A-B40C-7E3762F80A5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33F64-5245-4E81-A95C-A7C9D68E0A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49B9C-16C9-406C-BB0E-93B73E8E061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3ACE4-4D9E-4B69-BFCD-831798DC61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E357-D4AE-428D-8AD9-3F4A6CA3DF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379E-5E5B-4E18-9AC5-3F09972CDE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48DB-8070-4DD7-98B0-EC9FC5FD62F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741E-4185-4D9B-A145-578CC055E9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BF440-8FCB-477D-AF3F-AD811716D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571B-C680-4671-B152-9A444A04FF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43080" y="3427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4653-5632-45B9-A726-65935C2AC2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31E1-6824-4ED4-B67F-C7BA55CE19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66E1-36B2-496F-AC8B-F9D61841217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E68B-AFEC-4EA4-BF63-6DC642F2800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E39C5-7486-439C-A9AB-3ECAA03208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B22F-7941-4212-AEA4-30228D2D0C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9FC2-3739-432E-8E6B-B11D7CAF75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26CE7-E8CC-4977-B5C7-0882725983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E14E5-BB7D-454F-9C8D-9D35AF46EE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4EEBC-D15F-4C89-B68E-8D5A22E53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3D9-4F7A-42CA-ADE7-7AA6853844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FDA-5FEE-4C41-8410-339A1C4ACF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F86-9E11-4656-967F-6455A64180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2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727-9BA2-4F8B-B218-1E503019F6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4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2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C67F-F495-417E-8A7F-F93E41B390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944-4B84-47B5-A850-8482D47ADEC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0B0-A131-4ED5-8508-8C2C8C75D8E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A29-8B2D-4F77-8010-ABDE8E106922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6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853B-8317-4B0A-932D-407C774ACAF2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9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EB2-E105-4F0F-88C9-63798EBBC41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2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3099-2E64-4CFF-8BFE-D5750159D92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55C7-834D-46AE-813D-834217BEE70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45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E74-67E5-4AC1-92C2-DE8E09D6649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8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D101-9D91-4D4B-9E0A-11BD13DA9C9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51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D86C-0D99-48F9-B875-33C2C8AEDC10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54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E2B6-327A-444D-A250-27348E35694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57"/>
          </p:nvPr>
        </p:nvSpPr>
        <p:spPr>
          <a:xfrm>
            <a:off x="457200" y="6356520"/>
            <a:ext cx="26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99"/>
                </a:solidFill>
                <a:latin typeface="Times New Roman"/>
              </a:rPr>
              <a:t>2014 </a:t>
            </a:r>
            <a:r>
              <a:rPr b="0" lang="de-DE" sz="1200" spc="-1" strike="noStrike">
                <a:solidFill>
                  <a:srgbClr val="336699"/>
                </a:solidFill>
                <a:latin typeface="Times New Roman"/>
                <a:ea typeface="Arial"/>
              </a:rPr>
              <a:t>• Präsentation Bulga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F2B-E732-4C16-8E96-C4BE9FF9BBB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0" y="0"/>
            <a:ext cx="468360" cy="380880"/>
          </a:xfrm>
          <a:prstGeom prst="rect">
            <a:avLst/>
          </a:prstGeom>
          <a:solidFill>
            <a:srgbClr val="a60b16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468360" y="0"/>
            <a:ext cx="8675640" cy="380880"/>
          </a:xfrm>
          <a:prstGeom prst="rect">
            <a:avLst/>
          </a:prstGeom>
          <a:solidFill>
            <a:srgbClr val="004f9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01320" y="451008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Zukunft braucht Erfa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301320" y="466236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Zukunft braucht Erfa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398160" y="451008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Zukunft braucht Erfa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04C-B408-4EF4-97D1-F7E63C40BD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CF0-BDB2-47DD-B78D-BB508F0EF6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62A7-E3F1-4290-9E26-3685096190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2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F4DB-0836-485E-AB04-BCE47F8762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1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046-B76C-414D-8D15-71F73E96F7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6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4" descr="SES-logo"/>
          <p:cNvPicPr/>
          <p:nvPr/>
        </p:nvPicPr>
        <p:blipFill>
          <a:blip r:embed="rId2"/>
          <a:stretch/>
        </p:blipFill>
        <p:spPr>
          <a:xfrm>
            <a:off x="7696080" y="6226200"/>
            <a:ext cx="990720" cy="3618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7"/>
          <p:cNvSpPr/>
          <p:nvPr/>
        </p:nvSpPr>
        <p:spPr>
          <a:xfrm>
            <a:off x="6094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0" y="0"/>
            <a:ext cx="457200" cy="374760"/>
          </a:xfrm>
          <a:prstGeom prst="rect">
            <a:avLst/>
          </a:prstGeom>
          <a:solidFill>
            <a:srgbClr val="a61600"/>
          </a:solidFill>
          <a:ln w="9360">
            <a:solidFill>
              <a:srgbClr val="a60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457200" y="0"/>
            <a:ext cx="8686800" cy="380880"/>
          </a:xfrm>
          <a:prstGeom prst="rect">
            <a:avLst/>
          </a:prstGeom>
          <a:solidFill>
            <a:srgbClr val="799c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2"/>
          <p:cNvSpPr/>
          <p:nvPr/>
        </p:nvSpPr>
        <p:spPr>
          <a:xfrm>
            <a:off x="7696080" y="228600"/>
            <a:ext cx="1447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34308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6699"/>
                </a:solidFill>
                <a:latin typeface="Arial"/>
              </a:rPr>
              <a:t>2014 </a:t>
            </a:r>
            <a:r>
              <a:rPr b="0" lang="de-DE" sz="1000" spc="-1" strike="noStrike">
                <a:solidFill>
                  <a:srgbClr val="336699"/>
                </a:solidFill>
                <a:latin typeface="Arial"/>
                <a:ea typeface="Arial"/>
              </a:rPr>
              <a:t>• Präsentation Bulga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feld 12"/>
          <p:cNvSpPr/>
          <p:nvPr/>
        </p:nvSpPr>
        <p:spPr>
          <a:xfrm>
            <a:off x="468360" y="64533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3080" y="342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107-ABA8-4148-AEAD-92640FEEE1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8"/>
          </p:nvPr>
        </p:nvSpPr>
        <p:spPr>
          <a:xfrm>
            <a:off x="2526840" y="6095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3081"/>
          <p:cNvSpPr/>
          <p:nvPr/>
        </p:nvSpPr>
        <p:spPr>
          <a:xfrm>
            <a:off x="352440" y="533520"/>
            <a:ext cx="71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СЕНЬОР ЕКСПЕРТЕН СЕРВИЗ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4" descr=""/>
          <p:cNvPicPr/>
          <p:nvPr/>
        </p:nvPicPr>
        <p:blipFill>
          <a:blip r:embed="rId1"/>
          <a:stretch/>
        </p:blipFill>
        <p:spPr>
          <a:xfrm>
            <a:off x="5219640" y="1519200"/>
            <a:ext cx="3922920" cy="261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6"/>
          <p:cNvSpPr/>
          <p:nvPr/>
        </p:nvSpPr>
        <p:spPr>
          <a:xfrm>
            <a:off x="4427640" y="1668600"/>
            <a:ext cx="388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0000"/>
                </a:solidFill>
                <a:latin typeface="Arial"/>
                <a:ea typeface="Arial"/>
              </a:rPr>
              <a:t>Фабрика за преработване на месо</a:t>
            </a:r>
            <a:br>
              <a:rPr sz="1800"/>
            </a:br>
            <a:r>
              <a:rPr b="1" lang="de-DE" sz="1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ньор-експертът подпомогна фабриката при оптимизиране на производствените процеси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тролните системи за качество на месните продукти бяха подобрени, бяха допълнително квалифицирани сътрудницит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0000"/>
                </a:solidFill>
                <a:latin typeface="Arial"/>
              </a:rPr>
              <a:t>Фабрика за преработка на месо в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Grafik 1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81636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6"/>
          <p:cNvSpPr/>
          <p:nvPr/>
        </p:nvSpPr>
        <p:spPr>
          <a:xfrm>
            <a:off x="4427640" y="1268280"/>
            <a:ext cx="410508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0000"/>
                </a:solidFill>
                <a:latin typeface="Arial"/>
              </a:rPr>
              <a:t>Производител на подпр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вместно с фирмата сеньор-експертът разработи маркетингова стратегия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ответстваща на фирмата и на пазарн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 сред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държане на маркат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формление на опаковкат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 ниш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дуциране на асортимент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роприятия за реклама – това са най-важните третирани тем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прилаган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 на маркегинговата стратегия експертът остави писмен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ан за действи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изводител на подправки от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Grafik 1" descr=""/>
          <p:cNvPicPr/>
          <p:nvPr/>
        </p:nvPicPr>
        <p:blipFill>
          <a:blip r:embed="rId1"/>
          <a:stretch/>
        </p:blipFill>
        <p:spPr>
          <a:xfrm>
            <a:off x="250920" y="1789200"/>
            <a:ext cx="4176720" cy="2784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6"/>
          <p:cNvSpPr/>
          <p:nvPr/>
        </p:nvSpPr>
        <p:spPr>
          <a:xfrm>
            <a:off x="4427640" y="16686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Туристически информационен центъ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 изработена стратегия за организация на център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яха написани служебните характеристики на отделните работни места и съответните отговорности на персонала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трудниците бяха обучени на обслужване, ориентирано към клиентит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 разработена оферта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услуги за бизнеса и свободното врем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Туристически информационен център в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Grafik 2" descr=""/>
          <p:cNvPicPr/>
          <p:nvPr/>
        </p:nvPicPr>
        <p:blipFill>
          <a:blip r:embed="rId1"/>
          <a:stretch/>
        </p:blipFill>
        <p:spPr>
          <a:xfrm>
            <a:off x="108000" y="1668600"/>
            <a:ext cx="4075200" cy="305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1027"/>
          <p:cNvSpPr/>
          <p:nvPr/>
        </p:nvSpPr>
        <p:spPr>
          <a:xfrm>
            <a:off x="343080" y="1600200"/>
            <a:ext cx="4876560" cy="38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астни и държавн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ституции за професионалн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чилищно образовани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ублични администраци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ституции в областт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дравеопаз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циални и благотворите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1028" descr="I:\Bilder\Senior_Experten\M\Mueller_Friedrich\Mueller F BG 1.jpg"/>
          <p:cNvPicPr/>
          <p:nvPr/>
        </p:nvPicPr>
        <p:blipFill>
          <a:blip r:embed="rId1"/>
          <a:stretch/>
        </p:blipFill>
        <p:spPr>
          <a:xfrm>
            <a:off x="5257800" y="1752480"/>
            <a:ext cx="3429000" cy="266724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Възло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3"/>
          <p:cNvSpPr/>
          <p:nvPr/>
        </p:nvSpPr>
        <p:spPr>
          <a:xfrm>
            <a:off x="2827440" y="55944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5977080" y="55944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3660840" y="155736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контакт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глеждане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ърсене и предлагане на е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твърждаване от страна на Възлож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готовк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ледващи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щ проект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6"/>
          <p:cNvSpPr/>
          <p:nvPr/>
        </p:nvSpPr>
        <p:spPr>
          <a:xfrm>
            <a:off x="533520" y="22860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тичане н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1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59040" cy="36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028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1030"/>
          <p:cNvSpPr/>
          <p:nvPr/>
        </p:nvSpPr>
        <p:spPr>
          <a:xfrm>
            <a:off x="4284720" y="162864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Община Тря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яви необходимост от съдействието на сеньор експерта г-н Камп при разработване на концепция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планиране на транспорта на града при съблюдаване на туристическите даденост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Община Тря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1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2900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124" name="Text Box 3"/>
          <p:cNvSpPr/>
          <p:nvPr/>
        </p:nvSpPr>
        <p:spPr>
          <a:xfrm>
            <a:off x="380880" y="533520"/>
            <a:ext cx="60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Договорни взаим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4"/>
          <p:cNvSpPr/>
          <p:nvPr/>
        </p:nvSpPr>
        <p:spPr>
          <a:xfrm>
            <a:off x="7615440" y="3809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2666880" y="2666880"/>
            <a:ext cx="3810240" cy="762120"/>
          </a:xfrm>
          <a:prstGeom prst="rect">
            <a:avLst/>
          </a:prstGeom>
          <a:solidFill>
            <a:srgbClr val="7b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ньор Експертен Серв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76320" y="3962520"/>
            <a:ext cx="2819160" cy="11430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Възложи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6172200" y="3962520"/>
            <a:ext cx="2819520" cy="11430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еньор Експе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8"/>
          <p:cNvCxnSpPr>
            <a:stCxn id="1126" idx="2"/>
            <a:endCxn id="1128" idx="0"/>
          </p:cNvCxnSpPr>
          <p:nvPr/>
        </p:nvCxnSpPr>
        <p:spPr>
          <a:xfrm flipH="1" rot="16200000">
            <a:off x="5809320" y="2190600"/>
            <a:ext cx="534240" cy="3010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0" name="AutoShape 9"/>
          <p:cNvCxnSpPr/>
          <p:nvPr/>
        </p:nvCxnSpPr>
        <p:spPr>
          <a:xfrm rot="5400000">
            <a:off x="2318400" y="2152440"/>
            <a:ext cx="534240" cy="30870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1" name="AutoShape 10"/>
          <p:cNvCxnSpPr/>
          <p:nvPr/>
        </p:nvCxnSpPr>
        <p:spPr>
          <a:xfrm flipV="1" rot="16200000">
            <a:off x="5809680" y="2190240"/>
            <a:ext cx="534240" cy="3010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2" name="Text Box 11"/>
          <p:cNvSpPr/>
          <p:nvPr/>
        </p:nvSpPr>
        <p:spPr>
          <a:xfrm>
            <a:off x="5796000" y="335772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лаг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2"/>
          <p:cNvSpPr/>
          <p:nvPr/>
        </p:nvSpPr>
        <p:spPr>
          <a:xfrm>
            <a:off x="1040760" y="335772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оразумение за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2"/>
          <p:cNvSpPr/>
          <p:nvPr/>
        </p:nvSpPr>
        <p:spPr>
          <a:xfrm>
            <a:off x="533520" y="5335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352440" y="1647720"/>
            <a:ext cx="83059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ожителят и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лючват споразумени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SES </a:t>
            </a:r>
            <a:r>
              <a:rPr b="1" lang="bg-BG" sz="1800" spc="-1" strike="noStrike">
                <a:solidFill>
                  <a:srgbClr val="990000"/>
                </a:solidFill>
                <a:latin typeface="Arial"/>
              </a:rPr>
              <a:t>се задължава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64c72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64c7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избере сеньор експерта много внимате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подпомогне сеньор експерта в подготовкат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направи пълна застраховка на сеньор експе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0000"/>
                </a:solidFill>
                <a:latin typeface="Arial"/>
              </a:rPr>
              <a:t>Възложителят се задължава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съдейства на сеньор експерта за получаване на информац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и разрешите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приеме финансовите споразумения със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потвърди съдържанието в Описание на задач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Възложи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1026"/>
          <p:cNvSpPr/>
          <p:nvPr/>
        </p:nvSpPr>
        <p:spPr>
          <a:xfrm>
            <a:off x="5335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                  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027"/>
          <p:cNvSpPr/>
          <p:nvPr/>
        </p:nvSpPr>
        <p:spPr>
          <a:xfrm>
            <a:off x="333360" y="1657440"/>
            <a:ext cx="7848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ньор експертът и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лючват Възлагане за проект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bg-BG" sz="1800" spc="-1" strike="noStrike">
                <a:solidFill>
                  <a:srgbClr val="990000"/>
                </a:solidFill>
                <a:latin typeface="Arial"/>
              </a:rPr>
              <a:t>Сеньор експертът се задължава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подготви проекта и да действа изключително в интерес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ож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се въздържа от професионални и политически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остави на Възложителя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алог с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Възложителят и сеньор експерта не сключват споразумение помежду си</a:t>
            </a: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Сеньор експ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3"/>
          <p:cNvSpPr/>
          <p:nvPr/>
        </p:nvSpPr>
        <p:spPr>
          <a:xfrm>
            <a:off x="533520" y="533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343080" y="465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"/>
          <p:cNvSpPr/>
          <p:nvPr/>
        </p:nvSpPr>
        <p:spPr>
          <a:xfrm>
            <a:off x="324000" y="1700280"/>
            <a:ext cx="8367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ългарският партньор поема местните разходи, възникващи в Българ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нощувки, храна, джобна сума, преводач /ако е нужно/, местен транспорт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ермания поема разходите за обработване на проекта в централата и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допълнителните разходи за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готовка на експерта – набиране н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информация, застраховка, обсъждане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кретно се обсъжда с всеки български партньор поемане н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самолетния билет в зависимост от финансовите му възможност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9"/>
          <p:cNvSpPr/>
          <p:nvPr/>
        </p:nvSpPr>
        <p:spPr>
          <a:xfrm>
            <a:off x="3733920" y="285264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0"/>
          <p:cNvSpPr/>
          <p:nvPr/>
        </p:nvSpPr>
        <p:spPr>
          <a:xfrm>
            <a:off x="3708360" y="42926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3708360" y="328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Разход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2"/>
          <p:cNvSpPr/>
          <p:nvPr/>
        </p:nvSpPr>
        <p:spPr>
          <a:xfrm>
            <a:off x="4788000" y="167328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ганизация на германската икономика за международно сътрудничеств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звъзмездна помощ за постигане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самостояте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now-how   ‚Made in Germany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0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а по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зависима 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ополез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0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циалисти, приключили с активна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53352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СЕНЬОР ЕКСПЕРТЕН СЕРВИЗ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(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Grafik 1" descr=""/>
          <p:cNvPicPr/>
          <p:nvPr/>
        </p:nvPicPr>
        <p:blipFill>
          <a:blip r:embed="rId1"/>
          <a:stretch/>
        </p:blipFill>
        <p:spPr>
          <a:xfrm>
            <a:off x="452520" y="1773360"/>
            <a:ext cx="4230720" cy="317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6"/>
          <p:cNvSpPr/>
          <p:nvPr/>
        </p:nvSpPr>
        <p:spPr>
          <a:xfrm>
            <a:off x="3995640" y="1413000"/>
            <a:ext cx="33847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Квалификация на преподавате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имназията бе консултирана в 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изводство на облекло и обслужване на новите шивашки машин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фесионална гимназия по облекло </a:t>
            </a:r>
            <a:br>
              <a:rPr sz="2800"/>
            </a:b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във Ви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10" descr="BG-VIGARM_1"/>
          <p:cNvPicPr/>
          <p:nvPr/>
        </p:nvPicPr>
        <p:blipFill>
          <a:blip r:embed="rId1"/>
          <a:stretch/>
        </p:blipFill>
        <p:spPr>
          <a:xfrm>
            <a:off x="457200" y="1773360"/>
            <a:ext cx="3162240" cy="260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оказатели за усп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3"/>
          <p:cNvSpPr/>
          <p:nvPr/>
        </p:nvSpPr>
        <p:spPr>
          <a:xfrm>
            <a:off x="380880" y="1676520"/>
            <a:ext cx="7848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7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волни Възложител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5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вото на образование на сътрудниците е повиш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9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ите процеси са организирани по-ефек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9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 продукти или методи са въвед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7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чеството на продуктите е подоб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3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рганизацията на производството или мениджмъ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 оптимизир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7%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курентоспособността е пови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533520" y="533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3"/>
          <p:cNvSpPr/>
          <p:nvPr/>
        </p:nvSpPr>
        <p:spPr>
          <a:xfrm>
            <a:off x="4716360" y="1413000"/>
            <a:ext cx="46087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дружаване на българската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фирма на панаи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бавяне на документация и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офесионална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редничество при коопер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редничество при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редничество при закупуване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 оборудване и ма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4"/>
          <p:cNvSpPr/>
          <p:nvPr/>
        </p:nvSpPr>
        <p:spPr>
          <a:xfrm flipV="1">
            <a:off x="7086600" y="4723560"/>
            <a:ext cx="133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След проекта – продължаваща подкре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Grafik 1" descr=""/>
          <p:cNvPicPr/>
          <p:nvPr/>
        </p:nvPicPr>
        <p:blipFill>
          <a:blip r:embed="rId1"/>
          <a:stretch/>
        </p:blipFill>
        <p:spPr>
          <a:xfrm>
            <a:off x="461880" y="177480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3"/>
          <p:cNvSpPr/>
          <p:nvPr/>
        </p:nvSpPr>
        <p:spPr>
          <a:xfrm>
            <a:off x="343080" y="1773360"/>
            <a:ext cx="815328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нгажименти на доброволни начала в частни и държавн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валифициране на специалисти и мениджър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шаване на остри проблем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силване на Вашата пазарна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участие на Възложителя в разходите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990000"/>
                </a:solidFill>
                <a:latin typeface="Arial"/>
              </a:rPr>
              <a:t>Не се провеждат проекти в областта на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оките технологии и химия и оръжейна промишл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99ccf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се поемат изпълнителски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Да обоб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4"/>
          <p:cNvSpPr/>
          <p:nvPr/>
        </p:nvSpPr>
        <p:spPr>
          <a:xfrm>
            <a:off x="1219320" y="1523880"/>
            <a:ext cx="125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5"/>
          <p:cNvSpPr/>
          <p:nvPr/>
        </p:nvSpPr>
        <p:spPr>
          <a:xfrm>
            <a:off x="343080" y="1557360"/>
            <a:ext cx="838188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Сеньор експертите Ви съдействат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квалифициране на Вашите сътрудниц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овишаване на производителнос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гарантиране на качествот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организацията на производството и управлени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Маркетинга и Продажбит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осигуряване на работните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Използвайте професионалните знания </a:t>
            </a:r>
            <a:br>
              <a:rPr sz="2800"/>
            </a:b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от Германия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Box 2"/>
          <p:cNvSpPr/>
          <p:nvPr/>
        </p:nvSpPr>
        <p:spPr>
          <a:xfrm>
            <a:off x="380880" y="1341360"/>
            <a:ext cx="85838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990000"/>
                </a:solidFill>
                <a:uFillTx/>
                <a:latin typeface="Arial"/>
              </a:rPr>
              <a:t>Тоня Дам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l./Fax: 03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40 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SM: 0885 933 758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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ses.pd@dir.b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ses-pd.hit.b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773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едставите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2.806 </a:t>
            </a: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екта през 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2012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7" name="Object 35"/>
          <p:cNvGraphicFramePr/>
          <p:nvPr/>
        </p:nvGraphicFramePr>
        <p:xfrm>
          <a:off x="1041480" y="977760"/>
          <a:ext cx="714996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977760"/>
                    <a:ext cx="71499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9" name="Object 2"/>
          <p:cNvGraphicFramePr/>
          <p:nvPr/>
        </p:nvGraphicFramePr>
        <p:xfrm>
          <a:off x="0" y="1773360"/>
          <a:ext cx="91440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  <a:ea typeface="Arial"/>
              </a:rPr>
              <a:t>Проекти в Югоизточна Европа</a:t>
            </a:r>
            <a:r>
              <a:rPr b="1" lang="fr-FR" sz="2800" spc="-1" strike="noStrike">
                <a:solidFill>
                  <a:srgbClr val="336699"/>
                </a:solidFill>
                <a:latin typeface="Arial"/>
                <a:ea typeface="Arial"/>
              </a:rPr>
              <a:t> 1983 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  <a:ea typeface="Arial"/>
              </a:rPr>
              <a:t>–</a:t>
            </a:r>
            <a:r>
              <a:rPr b="1" lang="fr-FR" sz="2800" spc="-1" strike="noStrike">
                <a:solidFill>
                  <a:srgbClr val="336699"/>
                </a:solidFill>
                <a:latin typeface="Arial"/>
                <a:ea typeface="Arial"/>
              </a:rPr>
              <a:t>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55680" y="51228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1.550 </a:t>
            </a: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екта извън Германия през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2013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Object 35"/>
          <p:cNvGraphicFramePr/>
          <p:nvPr/>
        </p:nvGraphicFramePr>
        <p:xfrm>
          <a:off x="63360" y="1278000"/>
          <a:ext cx="786312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278000"/>
                    <a:ext cx="786312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5" name="Object 3"/>
          <p:cNvGraphicFramePr/>
          <p:nvPr/>
        </p:nvGraphicFramePr>
        <p:xfrm>
          <a:off x="301680" y="1623960"/>
          <a:ext cx="892980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623960"/>
                    <a:ext cx="89298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Textfeld 1"/>
          <p:cNvSpPr/>
          <p:nvPr/>
        </p:nvSpPr>
        <p:spPr>
          <a:xfrm>
            <a:off x="8771760" y="185724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2"/>
          <p:cNvSpPr/>
          <p:nvPr/>
        </p:nvSpPr>
        <p:spPr>
          <a:xfrm>
            <a:off x="338040" y="533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екти 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1983 –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2"/>
          <p:cNvSpPr/>
          <p:nvPr/>
        </p:nvSpPr>
        <p:spPr>
          <a:xfrm>
            <a:off x="380880" y="1341360"/>
            <a:ext cx="85838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990000"/>
                </a:solidFill>
                <a:uFillTx/>
                <a:latin typeface="Arial"/>
              </a:rPr>
              <a:t>Тоня Дам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l./Fax: 03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40 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SM: 0885 933 758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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ses.pd@dir.b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ses-pd.hit.b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773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едставите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2"/>
          <p:cNvSpPr/>
          <p:nvPr/>
        </p:nvSpPr>
        <p:spPr>
          <a:xfrm>
            <a:off x="343080" y="533520"/>
            <a:ext cx="8648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Проекти по сектори на иконо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1983 </a:t>
            </a:r>
            <a:r>
              <a:rPr b="1" lang="de-DE" sz="2400" spc="-1" strike="noStrike">
                <a:solidFill>
                  <a:srgbClr val="336699"/>
                </a:solidFill>
                <a:latin typeface="Arial"/>
                <a:ea typeface="Arial"/>
              </a:rPr>
              <a:t>–</a:t>
            </a: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3"/>
          <p:cNvGraphicFramePr/>
          <p:nvPr/>
        </p:nvGraphicFramePr>
        <p:xfrm>
          <a:off x="0" y="1004760"/>
          <a:ext cx="8991720" cy="52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4760"/>
                    <a:ext cx="8991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349880"/>
          </a:xfrm>
          <a:prstGeom prst="rect">
            <a:avLst/>
          </a:prstGeom>
          <a:ln w="0">
            <a:noFill/>
          </a:ln>
        </p:spPr>
      </p:pic>
      <p:sp>
        <p:nvSpPr>
          <p:cNvPr id="1183" name="Rechteck 3"/>
          <p:cNvSpPr/>
          <p:nvPr/>
        </p:nvSpPr>
        <p:spPr>
          <a:xfrm>
            <a:off x="250920" y="3041640"/>
            <a:ext cx="77770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Нашият опит е Вашето бъдеще</a:t>
            </a:r>
            <a:r>
              <a:rPr b="1" lang="de-DE" sz="3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4876920" y="1676520"/>
            <a:ext cx="372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1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оект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г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 области хранително-вкусова промишлено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алообработван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илна промишленос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р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"/>
          <p:cNvSpPr/>
          <p:nvPr/>
        </p:nvSpPr>
        <p:spPr>
          <a:xfrm>
            <a:off x="533520" y="533520"/>
            <a:ext cx="5410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5" descr="P:\Gruppe_Euostintern\Schüller\BilderBerichteJPEG\BgCBKnit1.jpg"/>
          <p:cNvPicPr/>
          <p:nvPr/>
        </p:nvPicPr>
        <p:blipFill>
          <a:blip r:embed="rId1"/>
          <a:stretch/>
        </p:blipFill>
        <p:spPr>
          <a:xfrm>
            <a:off x="468360" y="1773360"/>
            <a:ext cx="4174920" cy="280800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SES </a:t>
            </a: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в Бълг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3"/>
          <p:cNvSpPr/>
          <p:nvPr/>
        </p:nvSpPr>
        <p:spPr>
          <a:xfrm>
            <a:off x="343080" y="533520"/>
            <a:ext cx="51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Нашата цел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Ваша полза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468360" y="3500280"/>
            <a:ext cx="8229600" cy="1143000"/>
          </a:xfrm>
          <a:prstGeom prst="rect">
            <a:avLst/>
          </a:prstGeom>
          <a:solidFill>
            <a:srgbClr val="d4d1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висока производителн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"/>
          <p:cNvSpPr/>
          <p:nvPr/>
        </p:nvSpPr>
        <p:spPr>
          <a:xfrm>
            <a:off x="15480" y="380988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дивидуална подк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6"/>
          <p:cNvSpPr/>
          <p:nvPr/>
        </p:nvSpPr>
        <p:spPr>
          <a:xfrm>
            <a:off x="6605640" y="38098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силв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зарната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2666880" y="2209680"/>
            <a:ext cx="3810240" cy="762120"/>
          </a:xfrm>
          <a:prstGeom prst="rect">
            <a:avLst/>
          </a:prstGeom>
          <a:solidFill>
            <a:srgbClr val="7b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специалисти и ръководни кад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"/>
          <p:cNvSpPr/>
          <p:nvPr/>
        </p:nvSpPr>
        <p:spPr>
          <a:xfrm>
            <a:off x="2666880" y="5013360"/>
            <a:ext cx="3810240" cy="762120"/>
          </a:xfrm>
          <a:prstGeom prst="rect">
            <a:avLst/>
          </a:prstGeom>
          <a:solidFill>
            <a:srgbClr val="7b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074" name="Text Box 3"/>
          <p:cNvSpPr/>
          <p:nvPr/>
        </p:nvSpPr>
        <p:spPr>
          <a:xfrm>
            <a:off x="380880" y="533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Сеньор експертите</a:t>
            </a:r>
            <a:r>
              <a:rPr b="1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"/>
          <p:cNvSpPr/>
          <p:nvPr/>
        </p:nvSpPr>
        <p:spPr>
          <a:xfrm>
            <a:off x="3162240" y="4005360"/>
            <a:ext cx="2819520" cy="1143000"/>
          </a:xfrm>
          <a:prstGeom prst="rect">
            <a:avLst/>
          </a:prstGeom>
          <a:solidFill>
            <a:srgbClr val="d4d1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ъвкав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риентирани към практи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7615440" y="3809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2666880" y="2666880"/>
            <a:ext cx="3810240" cy="762120"/>
          </a:xfrm>
          <a:prstGeom prst="rect">
            <a:avLst/>
          </a:prstGeom>
          <a:solidFill>
            <a:srgbClr val="7b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ециалисти, приключили с активна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108000" y="4014720"/>
            <a:ext cx="2819520" cy="1143000"/>
          </a:xfrm>
          <a:prstGeom prst="rect">
            <a:avLst/>
          </a:prstGeom>
          <a:solidFill>
            <a:srgbClr val="d4d1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опит в жив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в профес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8"/>
          <p:cNvSpPr/>
          <p:nvPr/>
        </p:nvSpPr>
        <p:spPr>
          <a:xfrm>
            <a:off x="6156360" y="4014720"/>
            <a:ext cx="2819520" cy="1143000"/>
          </a:xfrm>
          <a:prstGeom prst="rect">
            <a:avLst/>
          </a:prstGeom>
          <a:solidFill>
            <a:srgbClr val="d4d1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ят безвъзмез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са независ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AutoShape 9"/>
          <p:cNvCxnSpPr>
            <a:stCxn id="1077" idx="2"/>
            <a:endCxn id="1079" idx="0"/>
          </p:cNvCxnSpPr>
          <p:nvPr/>
        </p:nvCxnSpPr>
        <p:spPr>
          <a:xfrm flipH="1" rot="16200000">
            <a:off x="5775120" y="2224440"/>
            <a:ext cx="586440" cy="299484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1" name="AutoShape 10"/>
          <p:cNvCxnSpPr>
            <a:stCxn id="1077" idx="2"/>
            <a:endCxn id="1078" idx="0"/>
          </p:cNvCxnSpPr>
          <p:nvPr/>
        </p:nvCxnSpPr>
        <p:spPr>
          <a:xfrm rot="5400000">
            <a:off x="2751480" y="2194560"/>
            <a:ext cx="586440" cy="305496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2" name="Line 11"/>
          <p:cNvSpPr/>
          <p:nvPr/>
        </p:nvSpPr>
        <p:spPr>
          <a:xfrm>
            <a:off x="457200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1029"/>
          <p:cNvSpPr/>
          <p:nvPr/>
        </p:nvSpPr>
        <p:spPr>
          <a:xfrm>
            <a:off x="352440" y="1266840"/>
            <a:ext cx="6568920" cy="41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валификация на специалисти и ръководни кад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работване на маркетингови и продажбени стра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тимизиране на работните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ения в опазване на околната сред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зопасни условия н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ниджмънт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99c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дерниз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много др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43080" y="53352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Топ – теми, по които са партнирали на български фирми експерти от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6"/>
          <p:cNvSpPr/>
          <p:nvPr/>
        </p:nvSpPr>
        <p:spPr>
          <a:xfrm>
            <a:off x="4427640" y="1668600"/>
            <a:ext cx="4321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Фирма Макск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учи консултации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ет сеньор- експерти с различни специалности по на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ладово стопан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окупк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нтролин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роизводство- цялостния технологичен поток във фирмата бе подобрен съществен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0769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Фабрика за велосипеди в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13" descr="BG-PLMAN2"/>
          <p:cNvPicPr/>
          <p:nvPr/>
        </p:nvPicPr>
        <p:blipFill>
          <a:blip r:embed="rId1"/>
          <a:stretch/>
        </p:blipFill>
        <p:spPr>
          <a:xfrm>
            <a:off x="453960" y="1774800"/>
            <a:ext cx="3581640" cy="3043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Box 2"/>
          <p:cNvSpPr/>
          <p:nvPr/>
        </p:nvSpPr>
        <p:spPr>
          <a:xfrm>
            <a:off x="5335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7010280" y="4800600"/>
            <a:ext cx="1414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4427640" y="1268280"/>
            <a:ext cx="4392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Фирма за автобусен транспорт</a:t>
            </a:r>
            <a:r>
              <a:rPr b="1" lang="bg-BG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едно с ръководителя на сервиза експертът разработи проследователността на технологичните процеси в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рвизния център за автобус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ставяне на поръчката при приемане на транспортното средств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игуряване на качество на ремонтите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ще по време на престоя на експерта започна създаване на склад и закупуване на специални инструмент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 оптимизирано снабдяването с резервни части чрез ре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анизация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склада за резервни части и оптимизиране на договори за коопериране с доставчиц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0769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6699"/>
                </a:solidFill>
                <a:latin typeface="Arial"/>
              </a:rPr>
              <a:t>Фирма за пътнически транспорт в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" descr="SES Plovdiv 03"/>
          <p:cNvPicPr/>
          <p:nvPr/>
        </p:nvPicPr>
        <p:blipFill>
          <a:blip r:embed="rId1"/>
          <a:stretch/>
        </p:blipFill>
        <p:spPr>
          <a:xfrm>
            <a:off x="179280" y="1844640"/>
            <a:ext cx="41864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6:09:43Z</dcterms:created>
  <dc:creator>Freude</dc:creator>
  <dc:description/>
  <dc:language>en-US</dc:language>
  <cp:lastModifiedBy>Todorka</cp:lastModifiedBy>
  <cp:lastPrinted>2003-11-07T11:56:53Z</cp:lastPrinted>
  <dcterms:modified xsi:type="dcterms:W3CDTF">2014-07-15T15:11:40Z</dcterms:modified>
  <cp:revision>669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6000000000001024000</vt:lpwstr>
  </property>
  <property fmtid="{D5CDD505-2E9C-101B-9397-08002B2CF9AE}" pid="3" name="_MarkAsFinal">
    <vt:bool>1</vt:bool>
  </property>
</Properties>
</file>